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D237-F96E-497E-94A8-3B8C42389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23D8-A574-44D8-A319-B05AFE13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3D36-5036-4CAF-BEB8-C4627DDF7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B7AE-CD22-4CDB-A015-FC52E447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76BA-D345-42D7-B28B-9F53987E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2B62-5158-4DA2-9E4B-956B5452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F3C6-9FFA-4AB3-9EF6-EAB30D41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8E58-33EB-455B-B123-60585953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5AA4-218B-488F-8684-006958EE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0D7D-0237-4817-8A77-4200F35D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B342-0F6A-432D-8FB5-DEC89013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6521-B66A-4C28-97CC-E7544074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D3C1-59ED-4F15-9902-AFC74E317CD1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1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523880" y="2057400"/>
            <a:ext cx="6096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BAŞL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esim 2" descr=""/>
          <p:cNvPicPr/>
          <p:nvPr/>
        </p:nvPicPr>
        <p:blipFill>
          <a:blip r:embed="rId1"/>
          <a:stretch/>
        </p:blipFill>
        <p:spPr>
          <a:xfrm>
            <a:off x="0" y="-9540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sim 1" descr=""/>
          <p:cNvPicPr/>
          <p:nvPr/>
        </p:nvPicPr>
        <p:blipFill>
          <a:blip r:embed="rId1"/>
          <a:stretch/>
        </p:blipFill>
        <p:spPr>
          <a:xfrm>
            <a:off x="-38160" y="-152280"/>
            <a:ext cx="9220320" cy="7010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2T05:54:15Z</dcterms:created>
  <dc:creator>part-time</dc:creator>
  <dc:description/>
  <dc:language>en-US</dc:language>
  <cp:lastModifiedBy>AKADEMİSYEN</cp:lastModifiedBy>
  <dcterms:modified xsi:type="dcterms:W3CDTF">2023-03-16T13:04:1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